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65D-1EB4-4931-AAC9-A5433DCA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197-0D3A-4566-AB41-82CFED9E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DAD-A497-47D5-9827-CED3BAFF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3A4-1721-44B5-A96A-36E7E0AA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B3EC-703B-41E2-B2F1-7313FB67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5268-2220-4650-9495-B0B12573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90B6-B5DA-407B-84D1-2C67DE31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189D-6305-4B6A-9DC1-962DCF30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CC2E-74FC-454D-B9F0-A86D0CEB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7498-AA7F-4B8B-8C11-F175D83A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BECF-42D4-4B71-8EA4-E44C4498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C0A-E60D-40B4-9C4B-0FCDA6DA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FBCF-3B8B-4C95-9289-15D00FFC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F2C6-D024-460E-BD8E-B41A293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4F7C-F332-42DC-A871-49B68BA5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B3B5-F2E6-4A6E-82C2-1567B400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0C89-FDB1-429C-A067-0264DB5A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8EB-84E5-434C-A1B4-02EE00B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0ED-A129-4CE8-BD78-694F504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272-6159-426F-A7B3-9FC866E6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B07-C199-452C-A627-F9B955C2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C06-01D7-445D-B2A5-B3BD76C5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6B8-C3AA-406A-BA4B-127C11A1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E18-2603-402B-B0B2-7481F25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109-5C1C-4A9F-A0B4-F854DF0385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69A6-A251-46DE-996D-97B2259A13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tarter%20-%20map%20-%20geog.flp" TargetMode="External"/><Relationship Id="rId2" Type="http://schemas.openxmlformats.org/officeDocument/2006/relationships/hyperlink" Target="file:///starter%20-%20map%20-%20geog.flp" TargetMode="External"/><Relationship Id="rId3" Type="http://schemas.openxmlformats.org/officeDocument/2006/relationships/hyperlink" Target="file:///animaux%20endanger%20into.ppt" TargetMode="External"/><Relationship Id="rId4" Type="http://schemas.openxmlformats.org/officeDocument/2006/relationships/hyperlink" Target="file:///animaux%20endanger%20into.ppt" TargetMode="External"/><Relationship Id="rId5" Type="http://schemas.openxmlformats.org/officeDocument/2006/relationships/hyperlink" Target="file:///animaux%20endanger%20into.ppt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st%20qui.ppt" TargetMode="External"/><Relationship Id="rId2" Type="http://schemas.openxmlformats.org/officeDocument/2006/relationships/hyperlink" Target="file:///clouds-quel%20animal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imals but not as we know 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s animaux en danger: Animals with a tw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troduce the children to animals and descriptions in a more interesting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troduce the Global Dimension into MF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troduce a cross-curricular t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and when I used 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a came from ALL publication Deutsch Lehren und Lern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ear 7 pupils within the topic of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uld be used at anytime in Year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rouves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les conti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es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animaux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en da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with the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ing sent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orking at t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ing / Listening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Clou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guistic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pport sheet / independent wr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ate a ppt / video / glogster to inform people about endangered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ideo making – Windows Moviema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ogster – www.glogster.com (create and educator acc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glo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g 1 Glog 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9:56:49Z</dcterms:created>
  <dc:creator>Helena</dc:creator>
  <dc:description/>
  <dc:language>en-US</dc:language>
  <cp:lastModifiedBy>Helena</cp:lastModifiedBy>
  <dcterms:modified xsi:type="dcterms:W3CDTF">2010-06-28T20:47:19Z</dcterms:modified>
  <cp:revision>2</cp:revision>
  <dc:subject/>
  <dc:title>Animals but not as we know it</dc:title>
</cp:coreProperties>
</file>